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6253-2CE9-4435-B707-6A6805C8A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6527-2157-40DE-8BD9-23C2C8F5C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3B37-93B7-4CE0-9BFD-BFA317C46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01F5-D541-43D3-BBB3-620E7AECB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E728-5A7B-4863-97EB-AF8D18EEF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F4B3-F401-47A1-91B5-D30DDE8E2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ED35-C63E-4E0B-A5CA-01A358718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52A1-C28C-4AFE-8FFB-C75B34BC8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2EEA-E86E-4D0E-A7A0-F9E3CFDB8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8309-4324-42D1-AABE-9D97CD57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49F4-A5CA-4742-B8C7-87005D6B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1A55-9B93-4ABD-AE7B-6D8F6EBE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5A92E-6752-4127-99BA-BF87C30EA0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G00343_" descr=""/>
          <p:cNvPicPr/>
          <p:nvPr/>
        </p:nvPicPr>
        <p:blipFill>
          <a:blip r:embed="rId1"/>
          <a:stretch/>
        </p:blipFill>
        <p:spPr>
          <a:xfrm>
            <a:off x="1828800" y="2533680"/>
            <a:ext cx="1838160" cy="1752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419720" y="236232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6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33160" y="609480"/>
            <a:ext cx="3809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1100"/>
              </a:spcBef>
              <a:buClr>
                <a:srgbClr val="3333cc"/>
              </a:buClr>
              <a:buFont typeface="Wingdings" charset="2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akespeare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ney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dge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24280" y="609480"/>
            <a:ext cx="3810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1100"/>
              </a:spcBef>
              <a:buClr>
                <a:srgbClr val="3333cc"/>
              </a:buClr>
              <a:buFont typeface="Wingdings" charset="2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ton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ton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lo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t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tonio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4T14:51:13Z</dcterms:created>
  <dc:creator>Bafayad</dc:creator>
  <dc:description/>
  <dc:language>en-US</dc:language>
  <cp:lastModifiedBy>Bafayad</cp:lastModifiedBy>
  <dcterms:modified xsi:type="dcterms:W3CDTF">2004-02-14T14:51:22Z</dcterms:modified>
  <cp:revision>1</cp:revision>
  <dc:subject/>
  <dc:title>عرض تقديمي من PowerPoint</dc:title>
</cp:coreProperties>
</file>